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D6278-0048-47E2-B010-1168B4F7E6AC}"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6703A-07C9-45CF-A4D7-AC848D17E0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think of when you hear the term: Formative Assess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are some examp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t N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mative assessment is embedded, no rubrics, written/oral responses, notebook entries, response sheets, probes, questioning</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1AAA7-BB18-43FC-AF8C-93E71FAFE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se of whiteboards supports a classroom environment that encourages student generated ide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 shows that when students use whiteboards, their discussions are more animated, on task, and draw upon higher-level thin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facilitate a whole class discussion – line up boards for a silent walk through</a:t>
            </a:r>
            <a:r>
              <a:rPr b="0" lang="ja-JP" sz="1200" spc="-1" strike="noStrike">
                <a:solidFill>
                  <a:srgbClr val="000000"/>
                </a:solidFill>
                <a:latin typeface="Calibri"/>
              </a:rPr>
              <a:t>’</a:t>
            </a:r>
            <a:r>
              <a:rPr b="0" lang="en-US" sz="1200" spc="-1" strike="noStrike">
                <a:solidFill>
                  <a:srgbClr val="000000"/>
                </a:solidFill>
                <a:latin typeface="Calibri"/>
              </a:rPr>
              <a:t> fir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ntation skil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leyball VS. Ping Pong conversation (student to student to student VS. student to teacher to student)</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6D0DA-02E8-4949-8691-DE538A33F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students to think through their response, commit to their answer, and write their explanation – then move to the appropriate cor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make their ideas publ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meeting in the corner with students who have similar ideas, students can further discuss and clarify their own thinking with oth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can visually see</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3FBB1-815F-44A2-822D-A02E516A9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students work in pairs or small groups – helps with justifying their own ideas &amp; considering the ideas of oth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egorizing helps students to understand that sometimes things don</a:t>
            </a:r>
            <a:r>
              <a:rPr b="0" lang="ja-JP" sz="1200" spc="-1" strike="noStrike">
                <a:solidFill>
                  <a:srgbClr val="000000"/>
                </a:solidFill>
                <a:latin typeface="Calibri"/>
              </a:rPr>
              <a:t>’</a:t>
            </a:r>
            <a:r>
              <a:rPr b="0" lang="en-US" sz="1200" spc="-1" strike="noStrike">
                <a:solidFill>
                  <a:srgbClr val="000000"/>
                </a:solidFill>
                <a:latin typeface="Calibri"/>
              </a:rPr>
              <a:t>t always fir neatly into grou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t on the wall and students can shift the cards/strips as their ideas change</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64E49-90C9-4990-94B6-F697DB0F9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it &amp; Toss is an anonymous technique used to get a quick read on the different ideas students have in the class – non-threate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provides a safe, fun, and engaging way for all students to report their ide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ced choice assess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in basket &amp; pass – altern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s students to see that a wrong answer can be just as valuable for building learning opportunities and constructing new ideas.</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B30A8-DCE7-4148-AFDF-7DCCD5A7D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ick, visual way for teacher &amp; students to get an immediate snapshot of students</a:t>
            </a:r>
            <a:r>
              <a:rPr b="0" lang="ja-JP" sz="1200" spc="-1" strike="noStrike">
                <a:solidFill>
                  <a:srgbClr val="000000"/>
                </a:solidFill>
                <a:latin typeface="Calibri"/>
              </a:rPr>
              <a:t>’</a:t>
            </a:r>
            <a:r>
              <a:rPr b="0" lang="en-US" sz="1200" spc="-1" strike="noStrike">
                <a:solidFill>
                  <a:srgbClr val="000000"/>
                </a:solidFill>
                <a:latin typeface="Calibri"/>
              </a:rPr>
              <a:t> thinking &amp; the level of conf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a:t>
            </a:r>
            <a:r>
              <a:rPr b="0" lang="ja-JP" sz="1200" spc="-1" strike="noStrike">
                <a:solidFill>
                  <a:srgbClr val="000000"/>
                </a:solidFill>
                <a:latin typeface="Calibri"/>
              </a:rPr>
              <a:t>‘</a:t>
            </a:r>
            <a:r>
              <a:rPr b="0" lang="en-US" sz="1200" spc="-1" strike="noStrike">
                <a:solidFill>
                  <a:srgbClr val="000000"/>
                </a:solidFill>
                <a:latin typeface="Calibri"/>
              </a:rPr>
              <a:t>floor graph</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lect response questions with 3 to 4 cho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students pick an answer and then decide how confident they are (low to hig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60A1B-0EE5-4FBF-9245-0F725F5B0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nymously recorded on a post-it – all post-its are arranged on wall/board as a bar grap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cit students</a:t>
            </a:r>
            <a:r>
              <a:rPr b="0" lang="ja-JP" sz="1200" spc="-1" strike="noStrike">
                <a:solidFill>
                  <a:srgbClr val="000000"/>
                </a:solidFill>
                <a:latin typeface="Calibri"/>
              </a:rPr>
              <a:t>’</a:t>
            </a:r>
            <a:r>
              <a:rPr b="0" lang="en-US" sz="1200" spc="-1" strike="noStrike">
                <a:solidFill>
                  <a:srgbClr val="000000"/>
                </a:solidFill>
                <a:latin typeface="Calibri"/>
              </a:rPr>
              <a:t> thinking beyond factual rec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ind students to record their own answer regardless of whether they think it is right or n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time for discussion of data and what students think the class needs to do in order to come to a common understanding.</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C0A84-F255-4E2F-BCA7-BB59014C1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E: Predict, Explain, Observe, Explain ag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obe is followed by the opportunity for students to test their prediction, observe the results, and modify their explanation</a:t>
            </a: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F35D9-9C24-4616-995F-B9F4A6855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gnostic: To identify preconceptions, lines of reasoning, &amp; learning difficulties/misconcep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mative: To inform instruction and provide feedback to students on their learning. Also promotes deeper student thin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tive: To measure &amp; document the extent to which students have achieved a learning targ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Diagnostic assessment becomes formative when the assessment data are used to inform instruction/improve teaching &amp; lear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example of Dr. diagnosing vs. treating</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4DE47-8C8C-4E8F-9E1A-B696EE7CE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are good assessment practices vital in the classroom?</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orms teaching and learning</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s/documents student achievement</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3F58D-5BC5-46A2-8DFB-A49119515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do not begin (science) learning as blank slates waiting to be filled with knowle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ernal accountability VS Informing instructional planning &amp; decision ma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one ultimately affects student lear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effective assessment for one purpose doesn</a:t>
            </a:r>
            <a:r>
              <a:rPr b="0" lang="ja-JP" sz="1200" spc="-1" strike="noStrike">
                <a:solidFill>
                  <a:srgbClr val="000000"/>
                </a:solidFill>
                <a:latin typeface="Calibri"/>
              </a:rPr>
              <a:t>’</a:t>
            </a:r>
            <a:r>
              <a:rPr b="0" lang="en-US" sz="1200" spc="-1" strike="noStrike">
                <a:solidFill>
                  <a:srgbClr val="000000"/>
                </a:solidFill>
                <a:latin typeface="Calibri"/>
              </a:rPr>
              <a:t>t necessarily effectively serve another purpose.</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D41AA-4593-48A4-A0BD-21B2E4870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due to the </a:t>
            </a:r>
            <a:r>
              <a:rPr b="0" lang="ja-JP" sz="1200" spc="-1" strike="noStrike">
                <a:solidFill>
                  <a:srgbClr val="000000"/>
                </a:solidFill>
                <a:latin typeface="Calibri"/>
              </a:rPr>
              <a:t>“</a:t>
            </a:r>
            <a:r>
              <a:rPr b="0" lang="en-US" sz="1200" spc="-1" strike="noStrike">
                <a:solidFill>
                  <a:srgbClr val="000000"/>
                </a:solidFill>
                <a:latin typeface="Calibri"/>
              </a:rPr>
              <a:t>mile wide, inch deep</a:t>
            </a:r>
            <a:r>
              <a:rPr b="0" lang="ja-JP" sz="1200" spc="-1" strike="noStrike">
                <a:solidFill>
                  <a:srgbClr val="000000"/>
                </a:solidFill>
                <a:latin typeface="Calibri"/>
              </a:rPr>
              <a:t>”</a:t>
            </a:r>
            <a:r>
              <a:rPr b="0" lang="en-US" sz="1200" spc="-1" strike="noStrike">
                <a:solidFill>
                  <a:srgbClr val="000000"/>
                </a:solidFill>
                <a:latin typeface="Calibri"/>
              </a:rPr>
              <a:t> coverage of content  which is due to low scores on standardized t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ll equals superficial understanding.</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97D7A-0C00-4D39-A37C-B535F5668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brief summa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ardly anything a high-stakes test 1-2 times/year can provide</a:t>
            </a: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B4D2C-69A8-4CF7-B06A-877948E99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ow do we effectively assessment student learning – along the way – formatively?</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D1306-B796-4A11-B158-9260A3ED6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of the following scenarios gives a glimpse into different techniques teachers use to promote student thinking, uncover students ideas, &amp; use information about their students progress in learning to improve and guide their instr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lassroom examples in groups or aloud as whole gro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eping in mind some questions.</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E6ED0-824F-42CC-858F-3F49880DA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63183-2227-47A7-99E8-633354E66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03256-65FD-4330-9E9F-1DD2ADB24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BF6346-290D-44C3-B88B-C873F4F30E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0117B6-6F1C-4BAE-BCF5-C03763A45A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5C2178-1E19-45C1-828C-CCEFBA3CCE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09BE12-EFF0-4C56-A9D6-FA9D1451B1E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08A2F1-F61D-445C-B9D3-F25323E1E7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95659B7-DB3A-45AE-BDAC-3DA1D012DB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FDE424D-E878-4824-BDDB-CE70CFC747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CBDA3C0-7F83-4361-BA5A-A906708809F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7B17823-383B-44F2-9A04-9E3C018FAE3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D4E2B96-B2B0-40EF-A986-342F1D78EC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FA854-4E60-4111-A6E0-1670129D7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18E07C1-4059-4937-8995-9A3998780F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A6AD32F-C427-422C-BF59-4EAB9500F6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10F51D8-1BB4-4EE3-82E2-8CB5EF26E2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3B25D01-51F9-4BE5-B9AC-8EC9E83EE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B0783C1-8EED-4862-B89B-1E42FE5210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A55726-51B3-4BB0-A757-EF9ED34ED6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DD2EB73-1897-4095-AACB-723D20F9A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7EE40D-887E-45DE-9D29-653678A543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067B20-5334-4CA2-937A-483CF6D544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60755E0-4731-4E63-878A-F95D24C81F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D3FC0-1650-4E99-96ED-47A8E44D9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6EBA98B-30BD-437B-A66E-8D05EC9AEA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957A3F-134B-44FA-8F9F-F0EB2E49F4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19DC43-0968-4F0E-803B-83225A326C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F3E77F-7B00-4AEC-B4E8-1408A0F5E7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451581-3095-4053-81EB-2D263CE4A3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0C0077-6D4D-4AE8-B1BB-9B807A9C37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3684EC-572E-40D4-8847-D1602B60DB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6F7687-4395-4D9A-A346-A4689FBA45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C65C98-4C89-43B3-9459-236E798BE4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D342F-9F34-4A3E-85E1-EB7EDF4235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7CB4E-2B75-427D-A1D4-57F6658E8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7D8E12-34CB-42CD-9BAE-D310902CF6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E19E81-07AF-43AF-8C4D-8C95403FD0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BA3303-52DE-4FF2-A90A-D2B4A39206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8538D93-278F-4771-936E-0E9018131D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B76A677-C500-479A-B623-D7AE4686F6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4346282-8052-4420-8485-BEE27171A8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8C6D22-48FF-44B4-BCDD-0847764E6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ECE4D5-42EA-42DF-8093-8E3C960C23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054AB16-7292-4CAD-9F4E-C56C5FEE62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607F95F-C4D4-47D7-AE3A-C1721F7E9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B0F43-33B3-46CE-B799-E7B4619A4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4318E9-1796-4FE6-8DFB-FE499AF39A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ACC85B-76D5-41B9-AA50-BC357268A2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FD1A72A-43FB-422C-8F99-319206B384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E262A7C-7258-4607-9453-CA1D23D53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D924093-0CF4-4209-B80B-1944C79AC2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6D281-3127-418F-8F79-D576650C1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98647-7309-4354-97D2-33CE9202F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BC98D-EC58-4D86-B5B3-E0B5FD479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B7EA4-2620-4061-8770-2A75032EA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05433-4ADB-43E1-AEAB-0BBA8C3EA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6409-3C1C-4B29-8FBD-826F8185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70D69-7EE7-4DAE-B7EF-396118DD2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544CC-B622-4E1C-B509-7FCE4CC6B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76EA3-0627-4806-BE9C-C2E7C9205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05A94-1FA6-4E66-9C35-AAF1DDB35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094DC-CF09-4BF9-B2F4-3CDA306D8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C3E18-6902-4C4F-9434-6558663D84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6956D-5673-4EAF-8F7D-37F264ED1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7CB03-90D1-4450-BA15-6C28020D9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19454-567A-46B0-A022-B9E2FCD72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9D4C6-F006-4307-9CD8-97AD55E29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46C85-0792-4AC7-A159-CFEE4164A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A39C1-024A-4CE4-99DC-57F537BFC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591BB-1C38-45A8-87B1-9AEDD557E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E7167-215D-4816-85E7-5647A073F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D7213-7354-4C6C-BF7F-716FAF819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046E6-3E52-489D-8BCF-AC4346895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ABDF6-95E6-491F-9AFB-4DFFD8820D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625A5C-A272-47A6-A4E9-F537D3F33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A6ECB0D-B977-4A87-9843-BD4228598BA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F682EAD-AA01-4C71-8885-663CCB2BC8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14D22BB-426F-46B3-9CC6-4A9A28B185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04BC-447D-4A49-AA30-B2223381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C9E4342-E11B-4E0C-A572-191B028CB1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714688D-2D52-423E-B9F7-D589015C93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0367EBD-5B17-4818-AB01-A3CF4D3802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3EACD0-AEC6-4620-9281-59ADB0ED5C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9B2AFE-7488-4625-96BE-FBE5711ECB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7D4DF4-03F6-4A90-B7AE-52E582EF24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E0EEC98-920F-4E33-BBDE-C4FE5BEFF5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EA9BCEA-8511-467F-BC30-315009D7698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4514021-A3FC-4AC4-BD36-6F374D92FCC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171C58-43BD-4A6C-80F2-0D3ED42ACE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FC6C-2816-4B60-A1F3-875558C3D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C46DD-187F-43BF-8128-343464DA87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9C7490-09EB-47D0-A66F-A7397765DF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44C4C-A303-4537-BB25-C644CACE9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78194-81D3-4EA2-BABE-2A9064A06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235B6-01AA-4EEA-869E-2A4E4A40E2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2834E-01A9-4D8B-A53D-D32FCFBB0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1401E-257C-4F7D-B3B4-178561EE5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6A787-A731-4DED-87CD-BCDCB3D3C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AE0C8-FC3C-4BA5-B723-040C69F6F6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4EA3F2-91B9-4AF6-9098-AEF03CD2F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368E7-F1B5-4F2E-A2CA-FEF229589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B75B31-D187-4855-87B9-EFF5E58C4C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74CE28-52AE-41C3-9BF7-0207C454F8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97D585-4EFB-43EC-AD17-3C2F0CDD6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99DCA8-FBD6-4E6B-A813-E1E8B3CEE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E2FFAF-D281-4959-94AB-7596FAA96B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359F2-1771-41E6-AB86-2E1899BC2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C391A-4B59-4BDC-A2C6-73CA2FBBC3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0AE24-26B9-4ED4-A68C-260F07E28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196C0-28F1-485D-BCF6-90474BAB7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74B54-1512-4258-A495-8229623FD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61A6-BA82-4510-840E-92790F8F8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08970-5F6D-4314-A04E-1B17967575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B52908-F130-4198-B17E-89595207FC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CA5272-B2A6-4B1F-852A-7414741FAA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F37467-2EDA-4698-AA87-7CA0A6EC75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16F2B-EFB2-48CB-A395-299DCEFB2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2882A-E007-43AD-8E55-064376BA0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98A03-D6D6-4E99-AF8C-3A0A5EAC4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E4425-D59A-4435-AA65-03438663EE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540F9-7A8E-4F63-AE32-6126A30BF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D8CEC-7547-4C03-A22C-041F69260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7A80-1C0D-4591-91CE-F6507B1D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B88FD-8B7D-49FF-8884-7272122824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0BDDC-2DD3-4137-B543-590BA52E1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682573-2BFC-47F7-8DA0-D26217D7A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A99AB-61A8-4B23-AA9D-87CCA0E743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F4B377-A6C2-4244-95AF-C5536928CF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9745AF-1152-4F4B-83CF-B786E1CAE9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259E1-2248-421A-8208-5A34DFD8A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255FD-997F-4190-BE14-1A04BABBB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9A73B5-0C31-4F38-91C6-D0D223A32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89DEF7-DEF4-4C88-8D0A-96A88DE41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6F1A-1AD2-47B8-974E-D2E6CDBB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FA1826-CF74-44B8-BB74-4E36AD9BF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F4CE6-95EE-463D-9616-545E96FF9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03F6BB-D140-40D4-816F-A8CD47A86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A2E03-989D-414F-8F27-0B6BE0039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5E24D-C955-4213-8ADF-E9182DF32F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FCB049-B464-4E35-9098-D647399C17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FD5F8E-1A89-4A2D-8BE5-B6EC29E3A0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6B00E92-C359-4F71-8A11-E0A3C2D63AF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83D1E80-0604-476E-881D-E046FDA1A9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08CBEB9-E30D-4054-B0C8-4E4F5D33094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D4155-C658-4C9D-841B-3644BA5EB7BE}"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361FA-0362-4050-95F0-F4845D26A54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51F1A-1C2B-4453-9407-E6C1A0A99AD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97C39-1C41-4DB4-AF0A-8C0B9B487DB0}"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43159-5B48-4456-9B4E-8EF0C241AD8A}"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44CCD-4015-41AD-A111-57D83FDC2A6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B6777-B2D1-465A-B6CE-AE6CA3583F0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075E3-04C6-4DB9-8F0E-24502E7C1C0D}"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B9BA6-A6A8-4B6F-9750-E2803A93EA2E}"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F9455-144F-4565-994D-449A211C8CB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4B9CB-E59D-4F30-9444-DD0B1199E5F3}"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7ECE2-B61D-4DFB-8041-6CC916B7942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D515A-DC65-491E-B09C-7E7DCE8DD641}"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77F81-BEC4-4C81-A13B-2B6A494ECA6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55C3F-B6D3-4C8B-91BB-ABF940326CD0}"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7B056-2035-419F-99FC-4F858D50935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6B4EE-3B3C-4AFF-8C77-A75DE7BEAC7A}"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544E0-1225-4F9C-82DB-AE8EC4DFA5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21CDC-E471-4B07-8A0E-6BA89030F452}"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143F0-D3B0-4DA0-8CBD-F0405496E0A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611EE-056A-4692-B247-58F63127394B}"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F831E-8CA7-4ECE-9E8D-03FD4D633C89}"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FA6EA-4017-42F3-B5BF-9DCA2A50BA9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D506C-F286-4A0E-A944-94C6257BB6D1}"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SSESSMENT FOR LEARNING</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QUAL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RMATIVE ASSESSMENT</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Who</a:t>
            </a:r>
            <a:r>
              <a:rPr b="0" lang="ja-JP" sz="4200" spc="-1" strike="noStrike">
                <a:solidFill>
                  <a:srgbClr val="d16349"/>
                </a:solidFill>
                <a:latin typeface="Georgia"/>
              </a:rPr>
              <a:t>’</a:t>
            </a:r>
            <a:r>
              <a:rPr b="0" lang="en-US" sz="4200" spc="-1" strike="noStrike">
                <a:solidFill>
                  <a:srgbClr val="d16349"/>
                </a:solidFill>
                <a:latin typeface="Georgia"/>
              </a:rPr>
              <a:t>s Doing the Thinking?</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Examples of FACTs and Prob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teboarding – Batteries, Bulbs, &amp; Wires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 Corners – Ice Cold Lemonade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rd Sort – Is it Melting?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amp; Toss – Solids &amp; Holes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uman Scatterplot – Mirror on the Wall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icky Bars – Giant Sequoia Tree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O-E – Ice Cubes in a Bag prob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Batteries, Bulbs, &amp; Wires</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000" spc="-1" strike="noStrike">
                <a:solidFill>
                  <a:srgbClr val="000000"/>
                </a:solidFill>
                <a:latin typeface="Georgia"/>
              </a:rPr>
              <a:t>Kirsten has a battery and a small bulb. She wonders how many strips of wire she will need to connect the battery &amp; the bulb so that the bulb will light. What is the smallest number of wire strips Kirsten needs to make the bulb light up?</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A. One strip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Two strips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Three strips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D. Four strips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000000"/>
                </a:solidFill>
                <a:latin typeface="Georgia"/>
              </a:rPr>
              <a:t>Draw a picture to support your thinking.</a:t>
            </a:r>
            <a:endParaRPr b="0" lang="en-US" sz="20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Ice Cold Lemonade</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t was a hot summer day. Mattie poured herself a glass of lemonade. The lemonade was warm, so Mattie put some ice in the glass. After 10 minutes, Mattie noticed that the ice was melting and the lemonade was cold. Mattie wondered what made the lemonade get cold. She had three different ideas. Which idea do you think best explains why the lemonade got cold?</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A.</a:t>
            </a:r>
            <a:r>
              <a:rPr b="0" lang="en-US" sz="2000" spc="-1" strike="noStrike">
                <a:solidFill>
                  <a:srgbClr val="d16349"/>
                </a:solidFill>
                <a:latin typeface="Georgia"/>
              </a:rPr>
              <a:t>	</a:t>
            </a:r>
            <a:r>
              <a:rPr b="0" lang="en-US" sz="2000" spc="-1" strike="noStrike">
                <a:solidFill>
                  <a:srgbClr val="d16349"/>
                </a:solidFill>
                <a:latin typeface="Georgia"/>
              </a:rPr>
              <a:t>The coldness from the ice moved into the lemonade</a:t>
            </a: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B.</a:t>
            </a:r>
            <a:r>
              <a:rPr b="0" lang="en-US" sz="2000" spc="-1" strike="noStrike">
                <a:solidFill>
                  <a:srgbClr val="d16349"/>
                </a:solidFill>
                <a:latin typeface="Georgia"/>
              </a:rPr>
              <a:t>	</a:t>
            </a:r>
            <a:r>
              <a:rPr b="0" lang="en-US" sz="2000" spc="-1" strike="noStrike">
                <a:solidFill>
                  <a:srgbClr val="d16349"/>
                </a:solidFill>
                <a:latin typeface="Georgia"/>
              </a:rPr>
              <a:t>The heat from the lemonade moved into the ice</a:t>
            </a: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C.</a:t>
            </a:r>
            <a:r>
              <a:rPr b="0" lang="en-US" sz="2000" spc="-1" strike="noStrike">
                <a:solidFill>
                  <a:srgbClr val="d16349"/>
                </a:solidFill>
                <a:latin typeface="Georgia"/>
              </a:rPr>
              <a:t>	</a:t>
            </a:r>
            <a:r>
              <a:rPr b="0" lang="en-US" sz="2000" spc="-1" strike="noStrike">
                <a:solidFill>
                  <a:srgbClr val="d16349"/>
                </a:solidFill>
                <a:latin typeface="Georgia"/>
              </a:rPr>
              <a:t>The coldness &amp; the heat moved back &amp; forth until the lemonade </a:t>
            </a:r>
            <a:r>
              <a:rPr b="0" lang="en-US" sz="2000" spc="-1" strike="noStrike">
                <a:solidFill>
                  <a:srgbClr val="d16349"/>
                </a:solidFill>
                <a:latin typeface="Georgia"/>
              </a:rPr>
              <a:t>	</a:t>
            </a:r>
            <a:r>
              <a:rPr b="0" lang="en-US" sz="2000" spc="-1" strike="noStrike">
                <a:solidFill>
                  <a:srgbClr val="d16349"/>
                </a:solidFill>
                <a:latin typeface="Georgia"/>
              </a:rPr>
              <a:t>cooled off.</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s It Melt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strips of paper you have in front of you each list a situation that causes changes in materials. </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ganize the strips into 2 categories: </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16349"/>
                </a:solidFill>
                <a:latin typeface="Georgia"/>
              </a:rPr>
              <a:t>Melting and Not Melting</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fontScale="95000"/>
          </a:bodyPr>
          <a:p>
            <a:pPr marL="259200" indent="-259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olids &amp; Holes</a:t>
            </a:r>
            <a:endParaRPr b="0" lang="en-US" sz="27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Lance had a thin, solid piece of materials. He placed the material in water and it floated. He took the material out and punched holes all the way through it. What do you think Lance will observe when he puts the material with holes back in the water?</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d16349"/>
                </a:solidFill>
                <a:latin typeface="Georgia"/>
              </a:rPr>
              <a:t>A. It will sink.</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It will barely float.</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It will float the same as it did before the holes were punched into it.</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D. It will neither sink nor float. It will bob up &amp; down in the water.</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Explain your thinking. Describe the </a:t>
            </a:r>
            <a:r>
              <a:rPr b="0" lang="ja-JP" sz="2000" spc="-1" strike="noStrike">
                <a:solidFill>
                  <a:srgbClr val="000000"/>
                </a:solidFill>
                <a:latin typeface="Georgia"/>
              </a:rPr>
              <a:t>‘</a:t>
            </a:r>
            <a:r>
              <a:rPr b="0" lang="en-US" sz="2000" spc="-1" strike="noStrike">
                <a:solidFill>
                  <a:srgbClr val="000000"/>
                </a:solidFill>
                <a:latin typeface="Georgia"/>
              </a:rPr>
              <a:t>rule</a:t>
            </a:r>
            <a:r>
              <a:rPr b="0" lang="ja-JP" sz="2000" spc="-1" strike="noStrike">
                <a:solidFill>
                  <a:srgbClr val="000000"/>
                </a:solidFill>
                <a:latin typeface="Georgia"/>
              </a:rPr>
              <a:t>’</a:t>
            </a:r>
            <a:r>
              <a:rPr b="0" lang="en-US" sz="2000" spc="-1" strike="noStrike">
                <a:solidFill>
                  <a:srgbClr val="000000"/>
                </a:solidFill>
                <a:latin typeface="Georgia"/>
              </a:rPr>
              <a:t> or reasoning you used to make your predictio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irror on the Wall</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drienne placed a small, flat mirror against a wall. Standing close to the mirror, Adrienne could see her face from her eyebrows to her chin. Adrienne backed up five steps away from the mirror. Adrienne is now farther away from the mirror. How much of her face will Adrienne see in the mirror this tim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d16349"/>
                </a:solidFill>
                <a:latin typeface="Georgia"/>
              </a:rPr>
              <a:t>A. She will see more of her fac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She will see less of her fac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She will see the same amount of her fac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Explain your thinking. How confident are you in your respons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Giant Sequoia Tree</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giant sequoia tree is one of the largest trees on earth. It starts as a small seedling and grows into an enormous tree. Five children can stretch their arms across the width of the trunk of one of the large sequoia trees!</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Where did most of the matter that makes up the wood and leaves of this huge tree originally come from?</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d16349"/>
                </a:solidFill>
                <a:latin typeface="Georgia"/>
              </a:rPr>
              <a:t>A. sunlight</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E. oxyge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water</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F. minerals</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soil</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G. chlorophyll</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D. carbon dioxid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Ice Cubes in a Bag</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You are having an argument with your friend about what happens to the mass when matter changes from one form to another. To prove your idea, you put three ice cubes in a sealed bag and record the mass of the ice in the bag. You let the ice cubes melt completely. Ten minutes later you record the mass of the water in the bag. Which of the following best describes the result?</a:t>
            </a:r>
            <a:endParaRPr b="0" lang="en-US" sz="2000" spc="-1" strike="noStrike">
              <a:solidFill>
                <a:srgbClr val="000000"/>
              </a:solidFill>
              <a:latin typeface="Georgia"/>
            </a:endParaRPr>
          </a:p>
          <a:p>
            <a:pPr marL="272880" indent="-272880">
              <a:spcBef>
                <a:spcPts val="499"/>
              </a:spcBef>
              <a:buClr>
                <a:srgbClr val="d16349"/>
              </a:buClr>
              <a:buSzPct val="85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The mass of the water in the bag will be less than the mass of the ice in the bag.</a:t>
            </a:r>
            <a:endParaRPr b="0" lang="en-US" sz="2000" spc="-1" strike="noStrike">
              <a:solidFill>
                <a:srgbClr val="000000"/>
              </a:solidFill>
              <a:latin typeface="Georgia"/>
            </a:endParaRPr>
          </a:p>
          <a:p>
            <a:pPr marL="272880" indent="-272880">
              <a:spcBef>
                <a:spcPts val="499"/>
              </a:spcBef>
              <a:buClr>
                <a:srgbClr val="d16349"/>
              </a:buClr>
              <a:buSzPct val="85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The mass of the water in the bag will be more than the mass of the ice in the bag.</a:t>
            </a:r>
            <a:endParaRPr b="0" lang="en-US" sz="2000" spc="-1" strike="noStrike">
              <a:solidFill>
                <a:srgbClr val="000000"/>
              </a:solidFill>
              <a:latin typeface="Georgia"/>
            </a:endParaRPr>
          </a:p>
          <a:p>
            <a:pPr marL="272880" indent="-272880">
              <a:spcBef>
                <a:spcPts val="499"/>
              </a:spcBef>
              <a:buClr>
                <a:srgbClr val="d16349"/>
              </a:buClr>
              <a:buSzPct val="85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The mass of the water in the bag will be the same as the mass of the ice cubes in the bag.</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Types &amp; Purposes of Assessment</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at</a:t>
            </a:r>
            <a:r>
              <a:rPr b="0" i="1" lang="ja-JP" sz="2700" spc="-1" strike="noStrike">
                <a:solidFill>
                  <a:srgbClr val="000000"/>
                </a:solidFill>
                <a:latin typeface="Georgia"/>
              </a:rPr>
              <a:t>’</a:t>
            </a:r>
            <a:r>
              <a:rPr b="0" i="1" lang="en-US" sz="2700" spc="-1" strike="noStrike">
                <a:solidFill>
                  <a:srgbClr val="000000"/>
                </a:solidFill>
                <a:latin typeface="Georgia"/>
              </a:rPr>
              <a:t>s the differenc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agnostic</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ativ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tiv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Take Home Messages</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bes are assessments </a:t>
            </a:r>
            <a:r>
              <a:rPr b="0" i="1" lang="en-US" sz="2700" spc="-1" strike="noStrike">
                <a:solidFill>
                  <a:srgbClr val="000000"/>
                </a:solidFill>
                <a:latin typeface="Georgia"/>
              </a:rPr>
              <a:t>for</a:t>
            </a:r>
            <a:r>
              <a:rPr b="0" lang="en-US" sz="2700" spc="-1" strike="noStrike">
                <a:solidFill>
                  <a:srgbClr val="000000"/>
                </a:solidFill>
                <a:latin typeface="Georgia"/>
              </a:rPr>
              <a:t> learning</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 clear about your purpose before choosing a probe and assessment strategy</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be formative, you must not only gather data, you must use it!</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 toward creating a classroom where all ideas, regardless of whether they are right or wrong, are valued</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art small – keep it simple</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i="1" lang="en-US" sz="2400" spc="-1" strike="noStrike">
                <a:solidFill>
                  <a:srgbClr val="d16349"/>
                </a:solidFill>
                <a:latin typeface="Georgia"/>
              </a:rPr>
              <a:t>Effective teaching requires knowing what students are learning</a:t>
            </a:r>
            <a:endParaRPr b="0" lang="en-US" sz="24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fontScale="98000"/>
          </a:bodyPr>
          <a:p>
            <a:pPr marL="267120" indent="-26712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ubstantive body of research shows:</a:t>
            </a:r>
            <a:endParaRPr b="0" lang="en-US" sz="2700" spc="-1" strike="noStrike">
              <a:solidFill>
                <a:srgbClr val="000000"/>
              </a:solidFill>
              <a:latin typeface="Georgia"/>
            </a:endParaRPr>
          </a:p>
          <a:p>
            <a:pPr marL="267120" indent="-26712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ative assessment can significantly improve student learning</a:t>
            </a:r>
            <a:endParaRPr b="0" lang="en-US" sz="2700" spc="-1" strike="noStrike">
              <a:solidFill>
                <a:srgbClr val="000000"/>
              </a:solidFill>
              <a:latin typeface="Georgia"/>
            </a:endParaRPr>
          </a:p>
          <a:p>
            <a:pPr marL="267120" indent="-2671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atures of formative assessment that affect student achievement are missing from many classrooms</a:t>
            </a:r>
            <a:endParaRPr b="0" lang="en-US" sz="2700" spc="-1" strike="noStrike">
              <a:solidFill>
                <a:srgbClr val="000000"/>
              </a:solidFill>
              <a:latin typeface="Georgia"/>
            </a:endParaRPr>
          </a:p>
          <a:p>
            <a:pPr marL="267120" indent="-2671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is a need in our classrooms for purposeful &amp; varied assessment techniques (connected with instruction &amp;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Reflection of Formative Assessment</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 Used to Think _x0015_</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Now I Know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Knowledge is constructed and connected to other knowledge</a:t>
            </a:r>
            <a:endParaRPr b="0" lang="en-US" sz="24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re is a need to find a balance between:</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sessment OF learn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sessment FOR learn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Effective assessment practice requires immediate feedback to students</a:t>
            </a:r>
            <a:endParaRPr b="0" lang="en-US" sz="2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fontScale="98000"/>
          </a:bodyPr>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eachers need guidance:</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understand the opportunities that exist to formatively assess their student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remember that students bring a variety of different ideas to their learning</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connect student thinking with specific ideas from the standard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ovide learning experiences that bridge students</a:t>
            </a:r>
            <a:r>
              <a:rPr b="0" lang="ja-JP" sz="2700" spc="-1" strike="noStrike">
                <a:solidFill>
                  <a:srgbClr val="000000"/>
                </a:solidFill>
                <a:latin typeface="Georgia"/>
              </a:rPr>
              <a:t>’</a:t>
            </a:r>
            <a:r>
              <a:rPr b="0" lang="en-US" sz="2700" spc="-1" strike="noStrike">
                <a:solidFill>
                  <a:srgbClr val="000000"/>
                </a:solidFill>
                <a:latin typeface="Georgia"/>
              </a:rPr>
              <a:t> thinking &amp; the scientific concep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Get students thinking about their thinking</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fontScale="98000"/>
          </a:bodyPr>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chers need to spend more time understanding what students think </a:t>
            </a:r>
            <a:r>
              <a:rPr b="0" i="1" lang="en-US" sz="2700" spc="-1" strike="noStrike">
                <a:solidFill>
                  <a:srgbClr val="000000"/>
                </a:solidFill>
                <a:latin typeface="Georgia"/>
              </a:rPr>
              <a:t>prior</a:t>
            </a:r>
            <a:r>
              <a:rPr b="0" lang="en-US" sz="2700" spc="-1" strike="noStrike">
                <a:solidFill>
                  <a:srgbClr val="000000"/>
                </a:solidFill>
                <a:latin typeface="Georgia"/>
              </a:rPr>
              <a:t> to instruction and using that information to design learning opportunities…. </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y don</a:t>
            </a:r>
            <a:r>
              <a:rPr b="0" lang="ja-JP" sz="2700" spc="-1" strike="noStrike">
                <a:solidFill>
                  <a:srgbClr val="000000"/>
                </a:solidFill>
                <a:latin typeface="Georgia"/>
              </a:rPr>
              <a:t>’</a:t>
            </a:r>
            <a:r>
              <a:rPr b="0" lang="en-US" sz="2700" spc="-1" strike="noStrike">
                <a:solidFill>
                  <a:srgbClr val="000000"/>
                </a:solidFill>
                <a:latin typeface="Georgia"/>
              </a:rPr>
              <a:t>t they?</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ltimately, this helps students develop </a:t>
            </a:r>
            <a:r>
              <a:rPr b="0" i="1" lang="en-US" sz="2700" spc="-1" strike="noStrike">
                <a:solidFill>
                  <a:srgbClr val="000000"/>
                </a:solidFill>
                <a:latin typeface="Georgia"/>
              </a:rPr>
              <a:t>deeper conceptual understanding</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16349"/>
                </a:solidFill>
                <a:latin typeface="Georgia"/>
              </a:rPr>
              <a:t>Teachers are the most important link in the chain that connects</a:t>
            </a:r>
            <a:br>
              <a:rPr sz="2400"/>
            </a:br>
            <a:r>
              <a:rPr b="0" i="1" lang="en-US" sz="2400" spc="-1" strike="noStrike">
                <a:solidFill>
                  <a:srgbClr val="d16349"/>
                </a:solidFill>
                <a:latin typeface="Georgia"/>
              </a:rPr>
              <a:t>Assessment – Instruction - Learning</a:t>
            </a:r>
            <a:endParaRPr b="0" lang="en-US" sz="24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chers need to provide ongoing feedback and stimulus for deep think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via</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ch formative assessment techniqu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o</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form instruction &amp; affect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Need a focus shift from effective teaching to </a:t>
            </a:r>
            <a:br>
              <a:rPr sz="2400"/>
            </a:br>
            <a:r>
              <a:rPr b="0" i="1" lang="en-US" sz="2400" spc="-1" strike="noStrike">
                <a:solidFill>
                  <a:srgbClr val="d16349"/>
                </a:solidFill>
                <a:latin typeface="Georgia"/>
              </a:rPr>
              <a:t>effective student learning</a:t>
            </a:r>
            <a:endParaRPr b="0" lang="en-US" sz="24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Georgia"/>
              </a:rPr>
              <a:t>F</a:t>
            </a:r>
            <a:r>
              <a:rPr b="0" i="1" lang="en-US" sz="2700" spc="-1" strike="noStrike">
                <a:solidFill>
                  <a:srgbClr val="000000"/>
                </a:solidFill>
                <a:latin typeface="Georgia"/>
              </a:rPr>
              <a:t>ormative </a:t>
            </a:r>
            <a:r>
              <a:rPr b="0" i="1" lang="en-US" sz="2700" spc="-1" strike="noStrike" u="sng">
                <a:solidFill>
                  <a:srgbClr val="000000"/>
                </a:solidFill>
                <a:uFillTx/>
                <a:latin typeface="Georgia"/>
              </a:rPr>
              <a:t>A</a:t>
            </a:r>
            <a:r>
              <a:rPr b="0" i="1" lang="en-US" sz="2700" spc="-1" strike="noStrike">
                <a:solidFill>
                  <a:srgbClr val="000000"/>
                </a:solidFill>
                <a:latin typeface="Georgia"/>
              </a:rPr>
              <a:t>ssessment </a:t>
            </a:r>
            <a:r>
              <a:rPr b="0" i="1" lang="en-US" sz="2700" spc="-1" strike="noStrike" u="sng">
                <a:solidFill>
                  <a:srgbClr val="000000"/>
                </a:solidFill>
                <a:uFillTx/>
                <a:latin typeface="Georgia"/>
              </a:rPr>
              <a:t>C</a:t>
            </a:r>
            <a:r>
              <a:rPr b="0" i="1" lang="en-US" sz="2700" spc="-1" strike="noStrike">
                <a:solidFill>
                  <a:srgbClr val="000000"/>
                </a:solidFill>
                <a:latin typeface="Georgia"/>
              </a:rPr>
              <a:t>lassroom </a:t>
            </a:r>
            <a:r>
              <a:rPr b="0" i="1" lang="en-US" sz="2700" spc="-1" strike="noStrike" u="sng">
                <a:solidFill>
                  <a:srgbClr val="000000"/>
                </a:solidFill>
                <a:uFillTx/>
                <a:latin typeface="Georgia"/>
              </a:rPr>
              <a:t>T</a:t>
            </a:r>
            <a:r>
              <a:rPr b="0" i="1" lang="en-US" sz="2700" spc="-1" strike="noStrike">
                <a:solidFill>
                  <a:srgbClr val="000000"/>
                </a:solidFill>
                <a:latin typeface="Georgia"/>
              </a:rPr>
              <a:t>echniqu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Georgia"/>
              </a:rPr>
              <a:t>FAC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rposefully designed and used to examine student think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d to get kids thinking about their think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kes student thinking </a:t>
            </a:r>
            <a:r>
              <a:rPr b="0" lang="ja-JP" sz="2700" spc="-1" strike="noStrike">
                <a:solidFill>
                  <a:srgbClr val="000000"/>
                </a:solidFill>
                <a:latin typeface="Georgia"/>
              </a:rPr>
              <a:t>‘</a:t>
            </a:r>
            <a:r>
              <a:rPr b="0" lang="en-US" sz="2700" spc="-1" strike="noStrike">
                <a:solidFill>
                  <a:srgbClr val="000000"/>
                </a:solidFill>
                <a:latin typeface="Georgia"/>
              </a:rPr>
              <a:t>visible</a:t>
            </a:r>
            <a:r>
              <a:rPr b="0" lang="ja-JP" sz="2700" spc="-1" strike="noStrike">
                <a:solidFill>
                  <a:srgbClr val="000000"/>
                </a:solidFill>
                <a:latin typeface="Georgia"/>
              </a:rPr>
              <a:t>’</a:t>
            </a:r>
            <a:r>
              <a:rPr b="0" lang="en-US" sz="2700" spc="-1" strike="noStrike">
                <a:solidFill>
                  <a:srgbClr val="000000"/>
                </a:solidFill>
                <a:latin typeface="Georgia"/>
              </a:rPr>
              <a:t> – to themselves, peers, &amp; teach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ows the teacher to continuously gather information on student thinking &amp;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More Facts about FACTs</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sily embedded into classroom instr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d to assess before &amp; throughout learning proc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student learn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vides opportunities to lear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commodates a range of learning sty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be used to differentiate instr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s classroom discour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What does a Formative Assessment Centered Classroom look like?</a:t>
            </a:r>
            <a:endParaRPr b="0" lang="en-US" sz="24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fontScale="98000"/>
          </a:bodyPr>
          <a:p>
            <a:pPr marL="504000" indent="-5040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4 Classroom Examples:</a:t>
            </a:r>
            <a:endParaRPr b="0" lang="en-US" sz="2700" spc="-1" strike="noStrike">
              <a:solidFill>
                <a:srgbClr val="000000"/>
              </a:solidFill>
              <a:latin typeface="Georgia"/>
            </a:endParaRPr>
          </a:p>
          <a:p>
            <a:pPr marL="504000" indent="-50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4000" indent="-50400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 all of the classroom snapshots have in common?</a:t>
            </a:r>
            <a:endParaRPr b="0" lang="en-US" sz="2700" spc="-1" strike="noStrike">
              <a:solidFill>
                <a:srgbClr val="000000"/>
              </a:solidFill>
              <a:latin typeface="Georgia"/>
            </a:endParaRPr>
          </a:p>
          <a:p>
            <a:pPr marL="504000" indent="-50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4000" indent="-50400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 the strategies in each example serve an instructional, assessment or learning purpose?</a:t>
            </a:r>
            <a:endParaRPr b="0" lang="en-US" sz="2700" spc="-1" strike="noStrike">
              <a:solidFill>
                <a:srgbClr val="000000"/>
              </a:solidFill>
              <a:latin typeface="Georgia"/>
            </a:endParaRPr>
          </a:p>
          <a:p>
            <a:pPr marL="504000" indent="-50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4000" indent="-50400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the evidence that students are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0:22:07Z</dcterms:created>
  <dc:creator>Jenna Pollock</dc:creator>
  <dc:description/>
  <dc:language>en-US</dc:language>
  <cp:lastModifiedBy>Jodi J. Haney</cp:lastModifiedBy>
  <dcterms:modified xsi:type="dcterms:W3CDTF">2012-05-15T00:10:30Z</dcterms:modified>
  <cp:revision>20</cp:revision>
  <dc:subject/>
  <dc:title>Who’s Doing the Thinking?</dc:title>
</cp:coreProperties>
</file>